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4B9A-E71C-48E8-9F6D-C523E485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0FC0-4AEF-4837-B94B-2232D282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5976-5315-42E0-AE1F-4EC747D2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66E0-3F1C-4901-B959-98792581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DF1B-F10A-47AC-B140-78909976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CF8B-DB52-4C0B-B11C-3E868A0D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45F3-6A1D-46BB-A5B0-AC7E68CF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F1CB-0E26-426A-ABF5-C6564F5A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9421-4A47-4FFF-B12C-039C86A5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82A5-3440-49E7-B26C-039B9927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8462-970A-4658-A44A-763B1A02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1C61-0C11-4E0D-A809-288488DE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559E-E329-4AA1-94C5-E557B839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4CB5-572D-4C63-BCD7-EDB478C8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4F29-71F0-46FF-9A47-1BABEF21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A2BC-85CD-4AAA-AEEC-CD228B96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9729-B39F-4853-9A3B-6F4133DB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4E4-43A8-41D2-8C2D-734100F8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4353-1CEC-4A7E-906D-64F4367D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FB31-1D1A-4608-B518-00127F3F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14F3-7A92-41F7-86E2-8415DB11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1ADB-277B-417E-88A5-CF8270B2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2327-485F-4946-9D0B-D9EAC1FF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0CFB-9DE9-4441-8D6A-7B52353B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36658"/>
                  </a:gs>
                  <a:gs pos="100000">
                    <a:srgbClr val="676a5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d6053"/>
                  </a:gs>
                  <a:gs pos="50000">
                    <a:srgbClr val="676a5c"/>
                  </a:gs>
                  <a:gs pos="100000">
                    <a:srgbClr val="5d605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0419-3926-4299-A382-B9ABFBE79AC4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b7b6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7b6a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676a5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72756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676a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36658"/>
                  </a:gs>
                  <a:gs pos="100000">
                    <a:srgbClr val="676a5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d6053"/>
                  </a:gs>
                  <a:gs pos="50000">
                    <a:srgbClr val="676a5c"/>
                  </a:gs>
                  <a:gs pos="100000">
                    <a:srgbClr val="5d605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0442-9A97-4524-8E67-4B26AB45A91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7b6a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560" y="1412640"/>
            <a:ext cx="86360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Verdana"/>
              </a:rPr>
              <a:t>Desafíos y Oportunidades en la  Vinculación de las Universidades con los Parques Industriales</a:t>
            </a:r>
            <a:r>
              <a:rPr b="1" lang="es-AR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5840" y="44280"/>
            <a:ext cx="668520" cy="7653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182880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-612720" y="20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Universidad Tecnológica Naci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Facultad Regional Bahía Blan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Secretaría de Ciencia y Tecnologí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Dirección de Vinculación Tecnológ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"/>
          <p:cNvSpPr/>
          <p:nvPr/>
        </p:nvSpPr>
        <p:spPr>
          <a:xfrm>
            <a:off x="361440" y="5105160"/>
            <a:ext cx="842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Arial"/>
              </a:rPr>
              <a:t>IX Reunión Plenaria RedVITE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Arial"/>
              </a:rPr>
              <a:t>Las Universidades y su relación con los Entornos Productivos Reg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Arial"/>
              </a:rPr>
              <a:t>Santiago del Estero, 29 y 30 de Mayo de 20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395280" y="1236600"/>
            <a:ext cx="856944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necesitan ampliar sus mercad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en promedio, el 75% de la producción se destina a la reg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compran poco en la z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en promedio, el 60 % de los insumos lo compran en otras reg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no aprovechan la capacidad de compra para abaratar cos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no existe “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Arial"/>
              </a:rPr>
              <a:t>Pool de Compra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falta mano de obra especializa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se visualiza como una limitante del creci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necesitan mejorar el equipamiento y/o la tecnolog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existe demanda de proveedores insatisfecha (oportunidades de negoc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124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cc"/>
                </a:solidFill>
                <a:latin typeface="Tahoma"/>
              </a:rPr>
              <a:t>¿Qué entendimos del negocio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24000" y="1484280"/>
            <a:ext cx="8820000" cy="48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no existe articulación entre los Gobiernos y las empres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esfuerzos aislados  (Villarin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no existen proyectos asociativos entre empresas (desconfianz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para producir, comprar materia prima, contratar servici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el financiamiento promocional no esta difundi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los empresarios no detectan oportunidades de financiamiento “blando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Arial"/>
              </a:rPr>
              <a:t>los instrumentos de financiamiento de los Gobiernos no son aprovechados por comple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los empresarios y los organismos de CyT están poco conec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124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cc"/>
                </a:solidFill>
                <a:latin typeface="Tahoma"/>
              </a:rPr>
              <a:t>¿Qué entendimos del contexto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260360" y="1157400"/>
            <a:ext cx="66247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Arial"/>
              </a:rPr>
              <a:t>Dos ej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Arial"/>
              </a:rPr>
              <a:t>Distritos Indust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Arial"/>
              </a:rPr>
              <a:t>Parques Indust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8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Arial"/>
              </a:rPr>
              <a:t>Bahía Blan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8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Arial"/>
              </a:rPr>
              <a:t>Tres Arroy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124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cc"/>
                </a:solidFill>
                <a:latin typeface="Tahoma"/>
              </a:rPr>
              <a:t>¿Qué acciones emprendimos 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717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cc"/>
                </a:solidFill>
                <a:latin typeface="Tahoma"/>
              </a:rPr>
              <a:t>Creación del </a:t>
            </a:r>
            <a:br>
              <a:rPr sz="4000"/>
            </a:br>
            <a:r>
              <a:rPr b="0" lang="es-MX" sz="4000" spc="-1" strike="noStrike">
                <a:solidFill>
                  <a:srgbClr val="ffffcc"/>
                </a:solidFill>
                <a:latin typeface="Tahoma"/>
              </a:rPr>
              <a:t>Distrito Metalmecánico del Sur</a:t>
            </a:r>
            <a:br>
              <a:rPr sz="4000"/>
            </a:br>
            <a:r>
              <a:rPr b="0" lang="es-MX" sz="4000" spc="-1" strike="noStrike">
                <a:solidFill>
                  <a:srgbClr val="ffffcc"/>
                </a:solidFill>
                <a:latin typeface="Tahoma"/>
              </a:rPr>
              <a:t>(DIMSUR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cc"/>
                </a:solidFill>
                <a:latin typeface="Verdana"/>
                <a:ea typeface="Times New Roman"/>
              </a:rPr>
              <a:t>Esquema de trabajo propuesto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División inicial de cinco (5) Distritos Productivos por sub-región geográfica y área de especialización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Etapa de sensibilización desarrollada en conjunto con el programa Distritos Productivos (Ministerio Producción Pcia Buenos Aires). Conformación de </a:t>
            </a:r>
            <a:r>
              <a:rPr b="1" lang="es-MX" sz="2200" spc="-1" strike="noStrike">
                <a:solidFill>
                  <a:srgbClr val="ffff00"/>
                </a:solidFill>
                <a:latin typeface="Verdana"/>
                <a:ea typeface="Times New Roman"/>
              </a:rPr>
              <a:t>grupos asociativos</a:t>
            </a:r>
            <a:r>
              <a:rPr b="1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Estudio de necesidades, apoyo en la formulación de planes de trabajo y consenso entre los actores. </a:t>
            </a:r>
            <a:r>
              <a:rPr b="1" lang="es-MX" sz="2200" spc="-1" strike="noStrike">
                <a:solidFill>
                  <a:srgbClr val="ffff00"/>
                </a:solidFill>
                <a:latin typeface="Verdana"/>
                <a:ea typeface="Times New Roman"/>
              </a:rPr>
              <a:t>Proyectos</a:t>
            </a:r>
            <a:r>
              <a:rPr b="1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Gestión e implementación de proyectos (INET, Ministerio de Trabajo de la Nación, etc.). </a:t>
            </a:r>
            <a:r>
              <a:rPr b="1" lang="es-MX" sz="2200" spc="-1" strike="noStrike">
                <a:solidFill>
                  <a:srgbClr val="ffff00"/>
                </a:solidFill>
                <a:latin typeface="Verdana"/>
                <a:ea typeface="Times New Roman"/>
              </a:rPr>
              <a:t>Materialización</a:t>
            </a:r>
            <a:r>
              <a:rPr b="1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482920" y="1339920"/>
            <a:ext cx="4176720" cy="4176720"/>
          </a:xfrm>
          <a:prstGeom prst="ellipse">
            <a:avLst/>
          </a:prstGeom>
          <a:gradFill rotWithShape="0">
            <a:gsLst>
              <a:gs pos="0">
                <a:srgbClr val="655824"/>
              </a:gs>
              <a:gs pos="100000">
                <a:srgbClr val="ddbf4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lang="es-AR" sz="3600" spc="-1" strike="noStrike">
                <a:solidFill>
                  <a:srgbClr val="ffffcc"/>
                </a:solidFill>
                <a:latin typeface="Verdana"/>
              </a:rPr>
              <a:t>Estructura del DIMSUR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3375000" y="2289240"/>
            <a:ext cx="2394000" cy="2279520"/>
          </a:xfrm>
          <a:prstGeom prst="ellipse">
            <a:avLst/>
          </a:prstGeom>
          <a:gradFill rotWithShape="0">
            <a:gsLst>
              <a:gs pos="0">
                <a:srgbClr val="ffff99">
                  <a:alpha val="60392"/>
                </a:srgbClr>
              </a:gs>
              <a:gs pos="100000">
                <a:srgbClr val="75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Arial"/>
              </a:rPr>
              <a:t>Py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692360" y="4086360"/>
            <a:ext cx="1752480" cy="1143000"/>
            <a:chOff x="1692360" y="4086360"/>
            <a:chExt cx="1752480" cy="1143000"/>
          </a:xfrm>
        </p:grpSpPr>
        <p:sp>
          <p:nvSpPr>
            <p:cNvPr id="427" name=""/>
            <p:cNvSpPr/>
            <p:nvPr/>
          </p:nvSpPr>
          <p:spPr>
            <a:xfrm>
              <a:off x="1692360" y="4086360"/>
              <a:ext cx="1752480" cy="1143000"/>
            </a:xfrm>
            <a:prstGeom prst="ellipse">
              <a:avLst/>
            </a:prstGeom>
            <a:gradFill rotWithShape="0">
              <a:gsLst>
                <a:gs pos="0">
                  <a:srgbClr val="2346b1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89280" y="429444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Arial"/>
                </a:rPr>
                <a:t>Gobierno Nacion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699160" y="1646280"/>
            <a:ext cx="1752480" cy="990720"/>
            <a:chOff x="5699160" y="1646280"/>
            <a:chExt cx="1752480" cy="990720"/>
          </a:xfrm>
        </p:grpSpPr>
        <p:sp>
          <p:nvSpPr>
            <p:cNvPr id="430" name=""/>
            <p:cNvSpPr/>
            <p:nvPr/>
          </p:nvSpPr>
          <p:spPr>
            <a:xfrm>
              <a:off x="5699160" y="1646280"/>
              <a:ext cx="1752480" cy="990720"/>
            </a:xfrm>
            <a:prstGeom prst="ellipse">
              <a:avLst/>
            </a:prstGeom>
            <a:gradFill rotWithShape="0">
              <a:gsLst>
                <a:gs pos="0">
                  <a:srgbClr val="2346b1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14880" y="1771920"/>
              <a:ext cx="137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Arial"/>
                </a:rPr>
                <a:t>Gobierno Provinc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5699160" y="4238640"/>
            <a:ext cx="1752480" cy="990360"/>
            <a:chOff x="5699160" y="4238640"/>
            <a:chExt cx="1752480" cy="990360"/>
          </a:xfrm>
        </p:grpSpPr>
        <p:sp>
          <p:nvSpPr>
            <p:cNvPr id="433" name=""/>
            <p:cNvSpPr/>
            <p:nvPr/>
          </p:nvSpPr>
          <p:spPr>
            <a:xfrm>
              <a:off x="5699160" y="4238640"/>
              <a:ext cx="1752480" cy="990360"/>
            </a:xfrm>
            <a:prstGeom prst="ellipse">
              <a:avLst/>
            </a:prstGeom>
            <a:gradFill rotWithShape="0">
              <a:gsLst>
                <a:gs pos="0">
                  <a:srgbClr val="2346b1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88240" y="4383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Arial"/>
                </a:rPr>
                <a:t>Gobiern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00"/>
                  </a:solidFill>
                  <a:latin typeface="Arial"/>
                </a:rPr>
                <a:t>Municip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692360" y="1628640"/>
            <a:ext cx="1752480" cy="990720"/>
            <a:chOff x="1692360" y="1628640"/>
            <a:chExt cx="1752480" cy="990720"/>
          </a:xfrm>
        </p:grpSpPr>
        <p:sp>
          <p:nvSpPr>
            <p:cNvPr id="436" name=""/>
            <p:cNvSpPr/>
            <p:nvPr/>
          </p:nvSpPr>
          <p:spPr>
            <a:xfrm>
              <a:off x="1692360" y="1628640"/>
              <a:ext cx="1752480" cy="990720"/>
            </a:xfrm>
            <a:prstGeom prst="ellipse">
              <a:avLst/>
            </a:prstGeom>
            <a:gradFill rotWithShape="0">
              <a:gsLst>
                <a:gs pos="0">
                  <a:srgbClr val="2346b1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08360" y="19159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Arial"/>
                </a:rPr>
                <a:t>Univ y C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3419640" y="4724280"/>
            <a:ext cx="223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Tahoma"/>
                <a:ea typeface="Arial"/>
              </a:rPr>
              <a:t>Distri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Tahoma"/>
                <a:ea typeface="Arial"/>
              </a:rPr>
              <a:t>Productiv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79280" y="422280"/>
            <a:ext cx="8785440" cy="601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85858"/>
              </a:gs>
              <a:gs pos="50000">
                <a:srgbClr val="c0c0c0">
                  <a:alpha val="70196"/>
                </a:srgbClr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549360"/>
            <a:ext cx="914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  <a:ea typeface="Arial"/>
              </a:rPr>
              <a:t>GOBIERNO NACIONAL, PROVINCIAL Y MUNICIP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  <a:ea typeface="Arial"/>
              </a:rPr>
              <a:t>(POLÍTICAS ACTIVAS DE PROMOCIÓN INDUSTRIALY APORTES FINANCIER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24000" y="1989000"/>
            <a:ext cx="3239640" cy="1942920"/>
            <a:chOff x="324000" y="1989000"/>
            <a:chExt cx="3239640" cy="1942920"/>
          </a:xfrm>
        </p:grpSpPr>
        <p:sp>
          <p:nvSpPr>
            <p:cNvPr id="442" name=""/>
            <p:cNvSpPr/>
            <p:nvPr/>
          </p:nvSpPr>
          <p:spPr>
            <a:xfrm>
              <a:off x="325080" y="1989000"/>
              <a:ext cx="3238560" cy="1942920"/>
            </a:xfrm>
            <a:prstGeom prst="rightArrowCallout">
              <a:avLst>
                <a:gd name="adj1" fmla="val 25002"/>
                <a:gd name="adj2" fmla="val 25000"/>
                <a:gd name="adj3" fmla="val 27781"/>
                <a:gd name="adj4" fmla="val 66667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4000" y="2643840"/>
              <a:ext cx="225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UNIV Y CTROS DE INVESTIGAC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3578400" y="2017800"/>
            <a:ext cx="3095280" cy="1873080"/>
            <a:chOff x="3578400" y="2017800"/>
            <a:chExt cx="3095280" cy="1873080"/>
          </a:xfrm>
        </p:grpSpPr>
        <p:sp>
          <p:nvSpPr>
            <p:cNvPr id="445" name=""/>
            <p:cNvSpPr/>
            <p:nvPr/>
          </p:nvSpPr>
          <p:spPr>
            <a:xfrm>
              <a:off x="3578400" y="2017800"/>
              <a:ext cx="3095280" cy="1873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52720" y="2246400"/>
              <a:ext cx="240840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DISTRITO PRODUCTIV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(ENTIDAD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049640" y="4508640"/>
            <a:ext cx="1601640" cy="1255320"/>
            <a:chOff x="4049640" y="4508640"/>
            <a:chExt cx="1601640" cy="1255320"/>
          </a:xfrm>
        </p:grpSpPr>
        <p:sp>
          <p:nvSpPr>
            <p:cNvPr id="448" name=""/>
            <p:cNvSpPr/>
            <p:nvPr/>
          </p:nvSpPr>
          <p:spPr>
            <a:xfrm>
              <a:off x="4049640" y="4508640"/>
              <a:ext cx="1285560" cy="1223640"/>
            </a:xfrm>
            <a:custGeom>
              <a:avLst/>
              <a:gdLst/>
              <a:ahLst/>
              <a:rect l="l" t="t" r="r" b="b"/>
              <a:pathLst>
                <a:path w="1814" h="1828">
                  <a:moveTo>
                    <a:pt x="0" y="1783"/>
                  </a:moveTo>
                  <a:lnTo>
                    <a:pt x="0" y="1510"/>
                  </a:lnTo>
                  <a:lnTo>
                    <a:pt x="91" y="1374"/>
                  </a:lnTo>
                  <a:lnTo>
                    <a:pt x="227" y="1510"/>
                  </a:lnTo>
                  <a:lnTo>
                    <a:pt x="771" y="1284"/>
                  </a:lnTo>
                  <a:lnTo>
                    <a:pt x="763" y="192"/>
                  </a:lnTo>
                  <a:lnTo>
                    <a:pt x="827" y="0"/>
                  </a:lnTo>
                  <a:lnTo>
                    <a:pt x="909" y="192"/>
                  </a:lnTo>
                  <a:lnTo>
                    <a:pt x="936" y="1106"/>
                  </a:lnTo>
                  <a:lnTo>
                    <a:pt x="1315" y="1102"/>
                  </a:lnTo>
                  <a:lnTo>
                    <a:pt x="1451" y="1374"/>
                  </a:lnTo>
                  <a:lnTo>
                    <a:pt x="1633" y="1238"/>
                  </a:lnTo>
                  <a:lnTo>
                    <a:pt x="1814" y="1238"/>
                  </a:lnTo>
                  <a:lnTo>
                    <a:pt x="1814" y="1828"/>
                  </a:lnTo>
                  <a:lnTo>
                    <a:pt x="45" y="1828"/>
                  </a:lnTo>
                  <a:lnTo>
                    <a:pt x="0" y="1783"/>
                  </a:lnTo>
                  <a:close/>
                </a:path>
              </a:pathLst>
            </a:custGeom>
            <a:solidFill>
              <a:srgbClr val="676a5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506840" y="5395680"/>
              <a:ext cx="11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PY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5994360" y="4494240"/>
            <a:ext cx="1601640" cy="1255680"/>
            <a:chOff x="5994360" y="4494240"/>
            <a:chExt cx="1601640" cy="1255680"/>
          </a:xfrm>
        </p:grpSpPr>
        <p:sp>
          <p:nvSpPr>
            <p:cNvPr id="451" name=""/>
            <p:cNvSpPr/>
            <p:nvPr/>
          </p:nvSpPr>
          <p:spPr>
            <a:xfrm>
              <a:off x="5994360" y="4494240"/>
              <a:ext cx="1285560" cy="1224000"/>
            </a:xfrm>
            <a:custGeom>
              <a:avLst/>
              <a:gdLst/>
              <a:ahLst/>
              <a:rect l="l" t="t" r="r" b="b"/>
              <a:pathLst>
                <a:path w="1814" h="1828">
                  <a:moveTo>
                    <a:pt x="0" y="1783"/>
                  </a:moveTo>
                  <a:lnTo>
                    <a:pt x="0" y="1510"/>
                  </a:lnTo>
                  <a:lnTo>
                    <a:pt x="91" y="1374"/>
                  </a:lnTo>
                  <a:lnTo>
                    <a:pt x="227" y="1510"/>
                  </a:lnTo>
                  <a:lnTo>
                    <a:pt x="771" y="1284"/>
                  </a:lnTo>
                  <a:lnTo>
                    <a:pt x="763" y="192"/>
                  </a:lnTo>
                  <a:lnTo>
                    <a:pt x="827" y="0"/>
                  </a:lnTo>
                  <a:lnTo>
                    <a:pt x="909" y="192"/>
                  </a:lnTo>
                  <a:lnTo>
                    <a:pt x="936" y="1106"/>
                  </a:lnTo>
                  <a:lnTo>
                    <a:pt x="1315" y="1102"/>
                  </a:lnTo>
                  <a:lnTo>
                    <a:pt x="1451" y="1374"/>
                  </a:lnTo>
                  <a:lnTo>
                    <a:pt x="1633" y="1238"/>
                  </a:lnTo>
                  <a:lnTo>
                    <a:pt x="1814" y="1238"/>
                  </a:lnTo>
                  <a:lnTo>
                    <a:pt x="1814" y="1828"/>
                  </a:lnTo>
                  <a:lnTo>
                    <a:pt x="45" y="1828"/>
                  </a:lnTo>
                  <a:lnTo>
                    <a:pt x="0" y="1783"/>
                  </a:lnTo>
                  <a:close/>
                </a:path>
              </a:pathLst>
            </a:custGeom>
            <a:solidFill>
              <a:srgbClr val="676a5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451560" y="5381640"/>
              <a:ext cx="11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PY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050920" y="4508640"/>
            <a:ext cx="1601640" cy="1255320"/>
            <a:chOff x="2050920" y="4508640"/>
            <a:chExt cx="1601640" cy="1255320"/>
          </a:xfrm>
        </p:grpSpPr>
        <p:sp>
          <p:nvSpPr>
            <p:cNvPr id="454" name=""/>
            <p:cNvSpPr/>
            <p:nvPr/>
          </p:nvSpPr>
          <p:spPr>
            <a:xfrm>
              <a:off x="2050920" y="4508640"/>
              <a:ext cx="1285560" cy="1223640"/>
            </a:xfrm>
            <a:custGeom>
              <a:avLst/>
              <a:gdLst/>
              <a:ahLst/>
              <a:rect l="l" t="t" r="r" b="b"/>
              <a:pathLst>
                <a:path w="1814" h="1828">
                  <a:moveTo>
                    <a:pt x="0" y="1783"/>
                  </a:moveTo>
                  <a:lnTo>
                    <a:pt x="0" y="1510"/>
                  </a:lnTo>
                  <a:lnTo>
                    <a:pt x="91" y="1374"/>
                  </a:lnTo>
                  <a:lnTo>
                    <a:pt x="227" y="1510"/>
                  </a:lnTo>
                  <a:lnTo>
                    <a:pt x="771" y="1284"/>
                  </a:lnTo>
                  <a:lnTo>
                    <a:pt x="763" y="192"/>
                  </a:lnTo>
                  <a:lnTo>
                    <a:pt x="827" y="0"/>
                  </a:lnTo>
                  <a:lnTo>
                    <a:pt x="909" y="192"/>
                  </a:lnTo>
                  <a:lnTo>
                    <a:pt x="936" y="1106"/>
                  </a:lnTo>
                  <a:lnTo>
                    <a:pt x="1315" y="1102"/>
                  </a:lnTo>
                  <a:lnTo>
                    <a:pt x="1451" y="1374"/>
                  </a:lnTo>
                  <a:lnTo>
                    <a:pt x="1633" y="1238"/>
                  </a:lnTo>
                  <a:lnTo>
                    <a:pt x="1814" y="1238"/>
                  </a:lnTo>
                  <a:lnTo>
                    <a:pt x="1814" y="1828"/>
                  </a:lnTo>
                  <a:lnTo>
                    <a:pt x="45" y="1828"/>
                  </a:lnTo>
                  <a:lnTo>
                    <a:pt x="0" y="1783"/>
                  </a:lnTo>
                  <a:close/>
                </a:path>
              </a:pathLst>
            </a:custGeom>
            <a:solidFill>
              <a:srgbClr val="676a5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08120" y="5395680"/>
              <a:ext cx="11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PY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456" name=""/>
          <p:cNvCxnSpPr/>
          <p:nvPr/>
        </p:nvCxnSpPr>
        <p:spPr>
          <a:xfrm flipH="1" rot="16200000">
            <a:off x="4056840" y="4735440"/>
            <a:ext cx="2160" cy="1999080"/>
          </a:xfrm>
          <a:prstGeom prst="curvedConnector5">
            <a:avLst>
              <a:gd name="adj1" fmla="val 19000000"/>
              <a:gd name="adj2" fmla="val 50000"/>
              <a:gd name="adj3" fmla="val 1900000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7" name=""/>
          <p:cNvCxnSpPr>
            <a:stCxn id="448" idx="0"/>
            <a:endCxn id="452" idx="2"/>
          </p:cNvCxnSpPr>
          <p:nvPr/>
        </p:nvCxnSpPr>
        <p:spPr>
          <a:xfrm flipH="1" rot="16200000">
            <a:off x="5545080" y="4268520"/>
            <a:ext cx="16560" cy="2944080"/>
          </a:xfrm>
          <a:prstGeom prst="curvedConnector5">
            <a:avLst>
              <a:gd name="adj1" fmla="val 1528888"/>
              <a:gd name="adj2" fmla="val 49993"/>
              <a:gd name="adj3" fmla="val 1528888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8" name=""/>
          <p:cNvCxnSpPr>
            <a:stCxn id="454" idx="0"/>
            <a:endCxn id="451" idx="0"/>
          </p:cNvCxnSpPr>
          <p:nvPr/>
        </p:nvCxnSpPr>
        <p:spPr>
          <a:xfrm flipH="1" flipV="1" rot="5400000">
            <a:off x="4046040" y="3753360"/>
            <a:ext cx="15120" cy="3943800"/>
          </a:xfrm>
          <a:prstGeom prst="curvedConnector5">
            <a:avLst>
              <a:gd name="adj1" fmla="val -3421951"/>
              <a:gd name="adj2" fmla="val 50000"/>
              <a:gd name="adj3" fmla="val -3421951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59" name=""/>
          <p:cNvCxnSpPr>
            <a:stCxn id="454" idx="1"/>
            <a:endCxn id="445" idx="2"/>
          </p:cNvCxnSpPr>
          <p:nvPr/>
        </p:nvCxnSpPr>
        <p:spPr>
          <a:xfrm flipH="1" flipV="1" rot="5400000">
            <a:off x="3537360" y="3048120"/>
            <a:ext cx="747000" cy="2431080"/>
          </a:xfrm>
          <a:prstGeom prst="curvedConnector5">
            <a:avLst>
              <a:gd name="adj1" fmla="val 58486"/>
              <a:gd name="adj2" fmla="val 50000"/>
              <a:gd name="adj3" fmla="val 58486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0" name=""/>
          <p:cNvCxnSpPr>
            <a:stCxn id="448" idx="1"/>
            <a:endCxn id="445" idx="2"/>
          </p:cNvCxnSpPr>
          <p:nvPr/>
        </p:nvCxnSpPr>
        <p:spPr>
          <a:xfrm flipV="1">
            <a:off x="4981320" y="3890880"/>
            <a:ext cx="144720" cy="1356120"/>
          </a:xfrm>
          <a:prstGeom prst="curvedConnector5">
            <a:avLst>
              <a:gd name="adj1" fmla="val 404239"/>
              <a:gd name="adj2" fmla="val 38635"/>
              <a:gd name="adj3" fmla="val 404239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1" name=""/>
          <p:cNvCxnSpPr>
            <a:stCxn id="451" idx="1"/>
            <a:endCxn id="445" idx="2"/>
          </p:cNvCxnSpPr>
          <p:nvPr/>
        </p:nvCxnSpPr>
        <p:spPr>
          <a:xfrm flipH="1" flipV="1">
            <a:off x="5125320" y="3890520"/>
            <a:ext cx="1801080" cy="1342080"/>
          </a:xfrm>
          <a:prstGeom prst="curvedConnector5">
            <a:avLst>
              <a:gd name="adj1" fmla="val -32347"/>
              <a:gd name="adj2" fmla="val 38744"/>
              <a:gd name="adj3" fmla="val -32347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2" name=""/>
          <p:cNvSpPr/>
          <p:nvPr/>
        </p:nvSpPr>
        <p:spPr>
          <a:xfrm>
            <a:off x="6877080" y="2157480"/>
            <a:ext cx="19447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ddbf4f"/>
                </a:solidFill>
                <a:latin typeface="Tahoma"/>
                <a:ea typeface="Arial"/>
              </a:rPr>
              <a:t>INNOV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ddbf4f"/>
                </a:solidFill>
                <a:latin typeface="Tahoma"/>
                <a:ea typeface="Arial"/>
              </a:rPr>
              <a:t>MEJORA DE LA GESTION COMER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ddbf4f"/>
                </a:solidFill>
                <a:latin typeface="Tahoma"/>
                <a:ea typeface="Arial"/>
              </a:rPr>
              <a:t>PLANEAMIENTO ESTRATÉG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"/>
          <p:cNvGrpSpPr/>
          <p:nvPr/>
        </p:nvGrpSpPr>
        <p:grpSpPr>
          <a:xfrm>
            <a:off x="395280" y="585720"/>
            <a:ext cx="3141720" cy="5686560"/>
            <a:chOff x="395280" y="585720"/>
            <a:chExt cx="3141720" cy="5686560"/>
          </a:xfrm>
        </p:grpSpPr>
        <p:pic>
          <p:nvPicPr>
            <p:cNvPr id="464" name="" descr=""/>
            <p:cNvPicPr/>
            <p:nvPr/>
          </p:nvPicPr>
          <p:blipFill>
            <a:blip r:embed="rId1"/>
            <a:stretch/>
          </p:blipFill>
          <p:spPr>
            <a:xfrm>
              <a:off x="395280" y="585720"/>
              <a:ext cx="3141720" cy="56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1808280" y="3176640"/>
              <a:ext cx="431640" cy="431640"/>
            </a:xfrm>
            <a:prstGeom prst="ellipse">
              <a:avLst/>
            </a:prstGeom>
            <a:noFill/>
            <a:ln w="38160">
              <a:solidFill>
                <a:srgbClr val="676a5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4140360" y="212760"/>
            <a:ext cx="4559040" cy="6431040"/>
            <a:chOff x="4140360" y="212760"/>
            <a:chExt cx="4559040" cy="6431040"/>
          </a:xfrm>
        </p:grpSpPr>
        <p:pic>
          <p:nvPicPr>
            <p:cNvPr id="467" name="" descr=""/>
            <p:cNvPicPr/>
            <p:nvPr/>
          </p:nvPicPr>
          <p:blipFill>
            <a:blip r:embed="rId2"/>
            <a:stretch/>
          </p:blipFill>
          <p:spPr>
            <a:xfrm>
              <a:off x="4140360" y="212760"/>
              <a:ext cx="4559040" cy="643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4140360" y="3429000"/>
              <a:ext cx="2089080" cy="2089080"/>
            </a:xfrm>
            <a:prstGeom prst="ellipse">
              <a:avLst/>
            </a:prstGeom>
            <a:solidFill>
              <a:srgbClr val="ffffff">
                <a:alpha val="25000"/>
              </a:srgbClr>
            </a:solidFill>
            <a:ln w="38160">
              <a:solidFill>
                <a:srgbClr val="676a5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2268360" y="39258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76a5c"/>
                </a:solidFill>
                <a:latin typeface="Tahoma"/>
                <a:ea typeface="Arial"/>
              </a:rPr>
              <a:t>DIMS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0" name=""/>
          <p:cNvCxnSpPr/>
          <p:nvPr/>
        </p:nvCxnSpPr>
        <p:spPr>
          <a:xfrm>
            <a:off x="2268360" y="3429000"/>
            <a:ext cx="550080" cy="534240"/>
          </a:xfrm>
          <a:prstGeom prst="curvedConnector2">
            <a:avLst/>
          </a:prstGeom>
          <a:ln w="12600">
            <a:solidFill>
              <a:srgbClr val="676a5c"/>
            </a:solidFill>
            <a:miter/>
            <a:headEnd len="med" type="triangle" w="med"/>
          </a:ln>
        </p:spPr>
      </p:cxnSp>
      <p:sp>
        <p:nvSpPr>
          <p:cNvPr id="471" name=""/>
          <p:cNvSpPr/>
          <p:nvPr/>
        </p:nvSpPr>
        <p:spPr>
          <a:xfrm>
            <a:off x="6156360" y="53672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76a5c"/>
                </a:solidFill>
                <a:latin typeface="Tahoma"/>
                <a:ea typeface="Arial"/>
              </a:rPr>
              <a:t>DIMS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2" name=""/>
          <p:cNvCxnSpPr/>
          <p:nvPr/>
        </p:nvCxnSpPr>
        <p:spPr>
          <a:xfrm>
            <a:off x="6156360" y="4870440"/>
            <a:ext cx="550080" cy="534240"/>
          </a:xfrm>
          <a:prstGeom prst="curvedConnector2">
            <a:avLst/>
          </a:prstGeom>
          <a:ln w="12600">
            <a:solidFill>
              <a:srgbClr val="676a5c"/>
            </a:solidFill>
            <a:miter/>
            <a:head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411120" y="-5140440"/>
            <a:ext cx="8321760" cy="11736360"/>
            <a:chOff x="411120" y="-5140440"/>
            <a:chExt cx="8321760" cy="11736360"/>
          </a:xfrm>
        </p:grpSpPr>
        <p:pic>
          <p:nvPicPr>
            <p:cNvPr id="474" name="" descr=""/>
            <p:cNvPicPr/>
            <p:nvPr/>
          </p:nvPicPr>
          <p:blipFill>
            <a:blip r:embed="rId1"/>
            <a:stretch/>
          </p:blipFill>
          <p:spPr>
            <a:xfrm>
              <a:off x="411120" y="-5140440"/>
              <a:ext cx="8321760" cy="1173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1908000" y="2709720"/>
              <a:ext cx="935280" cy="863640"/>
            </a:xfrm>
            <a:prstGeom prst="ellipse">
              <a:avLst/>
            </a:prstGeom>
            <a:noFill/>
            <a:ln w="475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16200000">
              <a:off x="337320" y="3486600"/>
              <a:ext cx="2276280" cy="1150920"/>
            </a:xfrm>
            <a:prstGeom prst="ellipse">
              <a:avLst/>
            </a:prstGeom>
            <a:noFill/>
            <a:ln w="47520">
              <a:solidFill>
                <a:srgbClr val="fd63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1564800">
              <a:off x="2268000" y="1916280"/>
              <a:ext cx="2303640" cy="1368360"/>
            </a:xfrm>
            <a:prstGeom prst="ellipse">
              <a:avLst/>
            </a:prstGeom>
            <a:noFill/>
            <a:ln w="47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3451200">
              <a:off x="1006920" y="872280"/>
              <a:ext cx="1368360" cy="1871640"/>
            </a:xfrm>
            <a:prstGeom prst="ellipse">
              <a:avLst/>
            </a:prstGeom>
            <a:noFill/>
            <a:ln w="47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9440" y="414360"/>
              <a:ext cx="4157640" cy="5931000"/>
            </a:xfrm>
            <a:custGeom>
              <a:avLst/>
              <a:gdLst/>
              <a:ahLst/>
              <a:rect l="l" t="t" r="r" b="b"/>
              <a:pathLst>
                <a:path w="2619" h="3736">
                  <a:moveTo>
                    <a:pt x="2619" y="1671"/>
                  </a:moveTo>
                  <a:lnTo>
                    <a:pt x="2563" y="1419"/>
                  </a:lnTo>
                  <a:lnTo>
                    <a:pt x="2475" y="1355"/>
                  </a:lnTo>
                  <a:lnTo>
                    <a:pt x="2407" y="1287"/>
                  </a:lnTo>
                  <a:lnTo>
                    <a:pt x="2495" y="1163"/>
                  </a:lnTo>
                  <a:lnTo>
                    <a:pt x="2435" y="1107"/>
                  </a:lnTo>
                  <a:lnTo>
                    <a:pt x="2381" y="1167"/>
                  </a:lnTo>
                  <a:lnTo>
                    <a:pt x="2135" y="969"/>
                  </a:lnTo>
                  <a:lnTo>
                    <a:pt x="1995" y="1051"/>
                  </a:lnTo>
                  <a:lnTo>
                    <a:pt x="1567" y="679"/>
                  </a:lnTo>
                  <a:lnTo>
                    <a:pt x="1307" y="915"/>
                  </a:lnTo>
                  <a:lnTo>
                    <a:pt x="1255" y="859"/>
                  </a:lnTo>
                  <a:lnTo>
                    <a:pt x="1364" y="742"/>
                  </a:lnTo>
                  <a:lnTo>
                    <a:pt x="1319" y="697"/>
                  </a:lnTo>
                  <a:lnTo>
                    <a:pt x="1299" y="663"/>
                  </a:lnTo>
                  <a:lnTo>
                    <a:pt x="1307" y="635"/>
                  </a:lnTo>
                  <a:lnTo>
                    <a:pt x="1239" y="527"/>
                  </a:lnTo>
                  <a:lnTo>
                    <a:pt x="1283" y="479"/>
                  </a:lnTo>
                  <a:lnTo>
                    <a:pt x="1183" y="379"/>
                  </a:lnTo>
                  <a:lnTo>
                    <a:pt x="1123" y="31"/>
                  </a:lnTo>
                  <a:cubicBezTo>
                    <a:pt x="1099" y="0"/>
                    <a:pt x="1080" y="122"/>
                    <a:pt x="1059" y="131"/>
                  </a:cubicBezTo>
                  <a:cubicBezTo>
                    <a:pt x="1036" y="101"/>
                    <a:pt x="1025" y="95"/>
                    <a:pt x="999" y="83"/>
                  </a:cubicBezTo>
                  <a:cubicBezTo>
                    <a:pt x="926" y="162"/>
                    <a:pt x="867" y="214"/>
                    <a:pt x="787" y="287"/>
                  </a:cubicBezTo>
                  <a:cubicBezTo>
                    <a:pt x="744" y="339"/>
                    <a:pt x="739" y="325"/>
                    <a:pt x="707" y="371"/>
                  </a:cubicBezTo>
                  <a:lnTo>
                    <a:pt x="551" y="507"/>
                  </a:lnTo>
                  <a:cubicBezTo>
                    <a:pt x="506" y="462"/>
                    <a:pt x="510" y="462"/>
                    <a:pt x="457" y="425"/>
                  </a:cubicBezTo>
                  <a:cubicBezTo>
                    <a:pt x="448" y="419"/>
                    <a:pt x="241" y="585"/>
                    <a:pt x="235" y="595"/>
                  </a:cubicBezTo>
                  <a:cubicBezTo>
                    <a:pt x="168" y="676"/>
                    <a:pt x="74" y="759"/>
                    <a:pt x="7" y="831"/>
                  </a:cubicBezTo>
                  <a:cubicBezTo>
                    <a:pt x="0" y="1459"/>
                    <a:pt x="49" y="2955"/>
                    <a:pt x="94" y="3373"/>
                  </a:cubicBezTo>
                  <a:lnTo>
                    <a:pt x="321" y="3418"/>
                  </a:lnTo>
                  <a:lnTo>
                    <a:pt x="457" y="3645"/>
                  </a:lnTo>
                  <a:lnTo>
                    <a:pt x="502" y="3736"/>
                  </a:lnTo>
                  <a:lnTo>
                    <a:pt x="820" y="3554"/>
                  </a:lnTo>
                  <a:lnTo>
                    <a:pt x="865" y="3282"/>
                  </a:lnTo>
                  <a:lnTo>
                    <a:pt x="729" y="3146"/>
                  </a:lnTo>
                  <a:lnTo>
                    <a:pt x="684" y="3056"/>
                  </a:lnTo>
                  <a:lnTo>
                    <a:pt x="774" y="2874"/>
                  </a:lnTo>
                  <a:cubicBezTo>
                    <a:pt x="785" y="2796"/>
                    <a:pt x="789" y="2716"/>
                    <a:pt x="807" y="2639"/>
                  </a:cubicBezTo>
                  <a:cubicBezTo>
                    <a:pt x="809" y="2631"/>
                    <a:pt x="823" y="2637"/>
                    <a:pt x="830" y="2632"/>
                  </a:cubicBezTo>
                  <a:cubicBezTo>
                    <a:pt x="853" y="2616"/>
                    <a:pt x="861" y="2601"/>
                    <a:pt x="875" y="2579"/>
                  </a:cubicBezTo>
                  <a:cubicBezTo>
                    <a:pt x="883" y="2554"/>
                    <a:pt x="882" y="2565"/>
                    <a:pt x="882" y="2549"/>
                  </a:cubicBezTo>
                  <a:lnTo>
                    <a:pt x="910" y="2511"/>
                  </a:lnTo>
                  <a:lnTo>
                    <a:pt x="1001" y="2239"/>
                  </a:lnTo>
                  <a:lnTo>
                    <a:pt x="1001" y="2148"/>
                  </a:lnTo>
                  <a:lnTo>
                    <a:pt x="774" y="1967"/>
                  </a:lnTo>
                  <a:lnTo>
                    <a:pt x="774" y="1740"/>
                  </a:lnTo>
                  <a:lnTo>
                    <a:pt x="1137" y="1876"/>
                  </a:lnTo>
                  <a:lnTo>
                    <a:pt x="1591" y="1876"/>
                  </a:lnTo>
                  <a:lnTo>
                    <a:pt x="2135" y="1785"/>
                  </a:lnTo>
                  <a:lnTo>
                    <a:pt x="2619" y="1671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620720" y="2419200"/>
              <a:ext cx="719280" cy="719280"/>
            </a:xfrm>
            <a:prstGeom prst="ellipse">
              <a:avLst/>
            </a:prstGeom>
            <a:noFill/>
            <a:ln w="47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3203640" y="3789360"/>
            <a:ext cx="5545080" cy="38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Tahoma"/>
                <a:ea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DIMS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Tahoma"/>
                <a:ea typeface="Arial"/>
              </a:rPr>
              <a:t>	</a:t>
            </a:r>
            <a:r>
              <a:rPr b="0" lang="es-MX" sz="1800" spc="-1" strike="noStrike">
                <a:solidFill>
                  <a:srgbClr val="ffff00"/>
                </a:solidFill>
                <a:latin typeface="Tahoma"/>
                <a:ea typeface="Arial"/>
              </a:rPr>
              <a:t>MAQUINARIA AGRÍCOLA Y 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b47f5"/>
                </a:solidFill>
                <a:latin typeface="Tahoma"/>
                <a:ea typeface="Arial"/>
              </a:rPr>
              <a:t>	</a:t>
            </a:r>
            <a:r>
              <a:rPr b="0" lang="es-MX" sz="1800" spc="-1" strike="noStrike">
                <a:solidFill>
                  <a:srgbClr val="4b47f5"/>
                </a:solidFill>
                <a:latin typeface="Tahoma"/>
                <a:ea typeface="Arial"/>
              </a:rPr>
              <a:t>EQUIPOS Y SERVICIOS INDUSTRI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1e3f7"/>
                </a:solidFill>
                <a:latin typeface="Tahoma"/>
                <a:ea typeface="Arial"/>
              </a:rPr>
              <a:t>	</a:t>
            </a:r>
            <a:r>
              <a:rPr b="0" lang="es-MX" sz="1800" spc="-1" strike="noStrike">
                <a:solidFill>
                  <a:srgbClr val="21e3f7"/>
                </a:solidFill>
                <a:latin typeface="Tahoma"/>
                <a:ea typeface="Arial"/>
              </a:rPr>
              <a:t>INDUSTRIA NAV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d4d3f"/>
                </a:solidFill>
                <a:latin typeface="Tahoma"/>
                <a:ea typeface="Arial"/>
              </a:rPr>
              <a:t>	</a:t>
            </a:r>
            <a:r>
              <a:rPr b="0" lang="es-MX" sz="1800" spc="-1" strike="noStrike">
                <a:solidFill>
                  <a:srgbClr val="fd4d3f"/>
                </a:solidFill>
                <a:latin typeface="Tahoma"/>
                <a:ea typeface="Arial"/>
              </a:rPr>
              <a:t>MAQUINARIA HORTÍCO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920" y="43920"/>
            <a:ext cx="871200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9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1" lang="es-MX" sz="3200" spc="-1" strike="noStrike">
                <a:solidFill>
                  <a:srgbClr val="ffffcc"/>
                </a:solidFill>
                <a:latin typeface="Verdana"/>
                <a:ea typeface="Times New Roman"/>
              </a:rPr>
              <a:t>Objetivos del DIMSU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596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9640" indent="-359640">
              <a:lnSpc>
                <a:spcPct val="90000"/>
              </a:lnSpc>
              <a:spcBef>
                <a:spcPts val="1250"/>
              </a:spcBef>
              <a:buClr>
                <a:srgbClr val="ddbf4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Fomentar y articular la comunicación y trabajo en conjunto de los distintos municipios y empresas para beneficio del secto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9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9640" indent="-359640">
              <a:lnSpc>
                <a:spcPct val="90000"/>
              </a:lnSpc>
              <a:spcBef>
                <a:spcPts val="1250"/>
              </a:spcBef>
              <a:buClr>
                <a:srgbClr val="ddbf4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Fortalecer las empresas de la Región mediante información y asistencia técnic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9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9640" indent="-359640">
              <a:lnSpc>
                <a:spcPct val="90000"/>
              </a:lnSpc>
              <a:spcBef>
                <a:spcPts val="1250"/>
              </a:spcBef>
              <a:buClr>
                <a:srgbClr val="ddbf4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Mejorar sus estructuras de costos y procesos de produ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9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9640" indent="-359640">
              <a:lnSpc>
                <a:spcPct val="90000"/>
              </a:lnSpc>
              <a:spcBef>
                <a:spcPts val="1250"/>
              </a:spcBef>
              <a:buClr>
                <a:srgbClr val="ddbf4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Diversificar sus producciones y mercad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9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9640" indent="-359640">
              <a:lnSpc>
                <a:spcPct val="90000"/>
              </a:lnSpc>
              <a:spcBef>
                <a:spcPts val="1250"/>
              </a:spcBef>
              <a:buClr>
                <a:srgbClr val="ddbf4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Promover la inserción internacional de la Reg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9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59640" indent="-359640">
              <a:lnSpc>
                <a:spcPct val="90000"/>
              </a:lnSpc>
              <a:spcBef>
                <a:spcPts val="1250"/>
              </a:spcBef>
              <a:buClr>
                <a:srgbClr val="ddbf4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Identificar los encadenamientos productivos factibles y las acciones a impulsar para el desarrollo industrial competitivo.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568440" y="112536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Parques Industr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ueden ser empresas de distinto rub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mparten espacio territor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finidad territor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Distritos Industr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mpresas del mismo rubro o de rubros complementa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mparten un espacio territorial más ampl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finidad sector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cc"/>
                </a:solidFill>
                <a:latin typeface="Verdana"/>
              </a:rPr>
              <a:t>Desarrollo del DIMSUR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Tahoma"/>
              </a:rPr>
              <a:t>Red de trabajo con Municipios y empres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4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Tahoma"/>
              </a:rPr>
              <a:t>Consenso de objetivos comunes entre las empres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4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Tahoma"/>
              </a:rPr>
              <a:t>Formulación de proyecto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4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Tahoma"/>
              </a:rPr>
              <a:t>Evaluación de alternativas de financiamiento e impact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4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Tahoma"/>
              </a:rPr>
              <a:t>Acercamiento a Instituciones y organismos de Cy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4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Tahoma"/>
              </a:rPr>
              <a:t>Materialización de propuest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cc"/>
                </a:solidFill>
                <a:latin typeface="Verdana"/>
              </a:rPr>
              <a:t>Resultados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4696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Cuatro Distritos Industriales consolidados y uno en etapa de sensibiliz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Cuatro programas de desarrollo formul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Cuatro proyectos de capacitación impuls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Dos proyectos de centros de servicios formul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Dos proyectos de desarrollo de productos en etapa ini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Boletín informativo del sector / Páginas We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Presencia en EXPOAGRO y FISA 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Diagnóstico y asesoramiento por programa Experiencia Py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">
            <a:hlinkClick r:id="rId1" action="ppaction://hlinksldjump"/>
          </p:cNvPr>
          <p:cNvSpPr/>
          <p:nvPr/>
        </p:nvSpPr>
        <p:spPr>
          <a:xfrm>
            <a:off x="8128080" y="634680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200484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9480" y="1219320"/>
            <a:ext cx="8305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cc"/>
                </a:solidFill>
                <a:latin typeface="Verdana"/>
              </a:rPr>
              <a:t>Distritos Consolidados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536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ffffff"/>
                </a:solidFill>
                <a:latin typeface="Tahoma"/>
              </a:rPr>
              <a:t>Naval del Sur</a:t>
            </a:r>
            <a:r>
              <a:rPr b="0" lang="es-AR" sz="2700" spc="-1" strike="noStrike">
                <a:solidFill>
                  <a:srgbClr val="ffffff"/>
                </a:solidFill>
                <a:latin typeface="Tahoma"/>
              </a:rPr>
              <a:t>: Empresas (13), Municipalidad de Cnel. Rosales, Asociación Bonaerense de Industria Naval, Cámara de talleres Navales de Punta Alta y UT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ffffff"/>
                </a:solidFill>
                <a:latin typeface="Tahoma"/>
              </a:rPr>
              <a:t>Distrito Industrial Metalmecánico Hortícola del Sur</a:t>
            </a:r>
            <a:r>
              <a:rPr b="0" lang="es-AR" sz="2700" spc="-1" strike="noStrike">
                <a:solidFill>
                  <a:srgbClr val="ffffff"/>
                </a:solidFill>
                <a:latin typeface="Tahoma"/>
              </a:rPr>
              <a:t>: Empresas (9), Municipalidad de Villarino y UTN. </a:t>
            </a:r>
            <a:r>
              <a:rPr b="0" lang="es-AR" sz="2700" spc="-1" strike="noStrike">
                <a:solidFill>
                  <a:srgbClr val="ffff00"/>
                </a:solidFill>
                <a:latin typeface="Tahoma"/>
              </a:rPr>
              <a:t>CORFO e INTA</a:t>
            </a:r>
            <a:r>
              <a:rPr b="0" lang="es-AR" sz="27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364000" y="1270080"/>
            <a:ext cx="3780000" cy="2158920"/>
            <a:chOff x="5364000" y="1270080"/>
            <a:chExt cx="3780000" cy="2158920"/>
          </a:xfrm>
        </p:grpSpPr>
        <p:sp>
          <p:nvSpPr>
            <p:cNvPr id="493" name=""/>
            <p:cNvSpPr/>
            <p:nvPr/>
          </p:nvSpPr>
          <p:spPr>
            <a:xfrm>
              <a:off x="5488560" y="1270080"/>
              <a:ext cx="232632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4800" spc="-1" strike="noStrike">
                  <a:solidFill>
                    <a:srgbClr val="a9aab1"/>
                  </a:solidFill>
                  <a:latin typeface="Maiandra GD"/>
                </a:rPr>
                <a:t>NAVAL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64000" y="1270080"/>
              <a:ext cx="3780000" cy="215892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a9aa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939440" y="1938240"/>
              <a:ext cx="66456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a9aab1"/>
                  </a:solidFill>
                  <a:latin typeface="Maiandra GD"/>
                </a:rPr>
                <a:t>Su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898040" y="1784160"/>
              <a:ext cx="124560" cy="205560"/>
            </a:xfrm>
            <a:custGeom>
              <a:avLst/>
              <a:gdLst>
                <a:gd name="textAreaLeft" fmla="*/ 51120 w 124560"/>
                <a:gd name="textAreaRight" fmla="*/ 73440 w 124560"/>
                <a:gd name="textAreaTop" fmla="*/ 84600 h 205560"/>
                <a:gd name="textAreaBottom" fmla="*/ 120960 h 20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9aab1"/>
            </a:solidFill>
            <a:ln w="9360">
              <a:solidFill>
                <a:srgbClr val="a9aa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54880" y="2555280"/>
              <a:ext cx="124560" cy="205560"/>
            </a:xfrm>
            <a:custGeom>
              <a:avLst/>
              <a:gdLst>
                <a:gd name="textAreaLeft" fmla="*/ 51120 w 124560"/>
                <a:gd name="textAreaRight" fmla="*/ 73440 w 124560"/>
                <a:gd name="textAreaTop" fmla="*/ 84600 h 205560"/>
                <a:gd name="textAreaBottom" fmla="*/ 120960 h 20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9aab1"/>
            </a:solidFill>
            <a:ln w="9360">
              <a:solidFill>
                <a:srgbClr val="a9aa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936640" y="1629720"/>
              <a:ext cx="124560" cy="205560"/>
            </a:xfrm>
            <a:custGeom>
              <a:avLst/>
              <a:gdLst>
                <a:gd name="textAreaLeft" fmla="*/ 51120 w 124560"/>
                <a:gd name="textAreaRight" fmla="*/ 73440 w 124560"/>
                <a:gd name="textAreaTop" fmla="*/ 84600 h 205560"/>
                <a:gd name="textAreaBottom" fmla="*/ 120960 h 20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9aab1"/>
            </a:solidFill>
            <a:ln w="9360">
              <a:solidFill>
                <a:srgbClr val="a9aa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14880" y="2400840"/>
              <a:ext cx="124560" cy="205560"/>
            </a:xfrm>
            <a:custGeom>
              <a:avLst/>
              <a:gdLst>
                <a:gd name="textAreaLeft" fmla="*/ 51120 w 124560"/>
                <a:gd name="textAreaRight" fmla="*/ 73440 w 124560"/>
                <a:gd name="textAreaTop" fmla="*/ 84600 h 205560"/>
                <a:gd name="textAreaBottom" fmla="*/ 120960 h 20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a9aab1"/>
            </a:solidFill>
            <a:ln w="9360">
              <a:solidFill>
                <a:srgbClr val="a9aa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29960" y="2812320"/>
              <a:ext cx="34063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a9aab1"/>
                  </a:solidFill>
                  <a:latin typeface="Maiandra GD"/>
                </a:rPr>
                <a:t>Distrito Industrial Naval del Sur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100" spc="-1" strike="noStrike">
                  <a:solidFill>
                    <a:srgbClr val="a9aab1"/>
                  </a:solidFill>
                  <a:latin typeface="Maiandra GD"/>
                </a:rPr>
                <a:t>www.navalsur.com.ar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472000" y="4437000"/>
            <a:ext cx="3672000" cy="1871640"/>
            <a:chOff x="5472000" y="4437000"/>
            <a:chExt cx="3672000" cy="1871640"/>
          </a:xfrm>
        </p:grpSpPr>
        <p:sp>
          <p:nvSpPr>
            <p:cNvPr id="502" name=""/>
            <p:cNvSpPr/>
            <p:nvPr/>
          </p:nvSpPr>
          <p:spPr>
            <a:xfrm>
              <a:off x="5472000" y="4437000"/>
              <a:ext cx="3672000" cy="187164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80000" y="4437000"/>
              <a:ext cx="2304000" cy="873360"/>
            </a:xfrm>
            <a:prstGeom prst="rect">
              <a:avLst/>
            </a:prstGeom>
            <a:noFill/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4800" spc="-1" strike="noStrike">
                  <a:solidFill>
                    <a:srgbClr val="cc6600"/>
                  </a:solidFill>
                  <a:latin typeface="Maiandra GD"/>
                </a:rPr>
                <a:t>DIMHO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028000" y="4977720"/>
              <a:ext cx="576000" cy="540720"/>
            </a:xfrm>
            <a:prstGeom prst="rect">
              <a:avLst/>
            </a:prstGeom>
            <a:noFill/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cc6600"/>
                  </a:solidFill>
                  <a:latin typeface="Maiandra GD"/>
                </a:rPr>
                <a:t>Su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848000" y="5352120"/>
              <a:ext cx="108000" cy="166320"/>
            </a:xfrm>
            <a:custGeom>
              <a:avLst/>
              <a:gdLst>
                <a:gd name="textAreaLeft" fmla="*/ 44640 w 108000"/>
                <a:gd name="textAreaRight" fmla="*/ 63360 w 108000"/>
                <a:gd name="textAreaTop" fmla="*/ 68400 h 166320"/>
                <a:gd name="textAreaBottom" fmla="*/ 97920 h 16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992000" y="4852800"/>
              <a:ext cx="108000" cy="166320"/>
            </a:xfrm>
            <a:custGeom>
              <a:avLst/>
              <a:gdLst>
                <a:gd name="textAreaLeft" fmla="*/ 44640 w 108000"/>
                <a:gd name="textAreaRight" fmla="*/ 63360 w 108000"/>
                <a:gd name="textAreaTop" fmla="*/ 68400 h 166320"/>
                <a:gd name="textAreaBottom" fmla="*/ 97920 h 16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496000" y="5518440"/>
              <a:ext cx="108000" cy="166320"/>
            </a:xfrm>
            <a:custGeom>
              <a:avLst/>
              <a:gdLst>
                <a:gd name="textAreaLeft" fmla="*/ 44640 w 108000"/>
                <a:gd name="textAreaRight" fmla="*/ 63360 w 108000"/>
                <a:gd name="textAreaTop" fmla="*/ 68400 h 166320"/>
                <a:gd name="textAreaBottom" fmla="*/ 97920 h 16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892000" y="4727880"/>
              <a:ext cx="108000" cy="166320"/>
            </a:xfrm>
            <a:custGeom>
              <a:avLst/>
              <a:gdLst>
                <a:gd name="textAreaLeft" fmla="*/ 44640 w 108000"/>
                <a:gd name="textAreaRight" fmla="*/ 63360 w 108000"/>
                <a:gd name="textAreaTop" fmla="*/ 68400 h 166320"/>
                <a:gd name="textAreaBottom" fmla="*/ 97920 h 16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80000" y="5684760"/>
              <a:ext cx="3456000" cy="249480"/>
            </a:xfrm>
            <a:prstGeom prst="rect">
              <a:avLst/>
            </a:prstGeom>
            <a:noFill/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cc6600"/>
                  </a:solidFill>
                  <a:latin typeface="Maiandra GD"/>
                </a:rPr>
                <a:t>Distrito Industrial Metalmecánico Hortícola del Su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24000" y="5976000"/>
              <a:ext cx="3168000" cy="249480"/>
            </a:xfrm>
            <a:prstGeom prst="rect">
              <a:avLst/>
            </a:prstGeom>
            <a:noFill/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cc6600"/>
                  </a:solidFill>
                  <a:latin typeface="Maiandra GD"/>
                </a:rPr>
                <a:t>www.dimhosur.com.a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cc"/>
                </a:solidFill>
                <a:latin typeface="Verdana"/>
              </a:rPr>
              <a:t>Distritos Consolidados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550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ffffff"/>
                </a:solidFill>
                <a:latin typeface="Tahoma"/>
              </a:rPr>
              <a:t>Distrito Industrial de Máquinas, Equipos y Servicios Industriales del Sur</a:t>
            </a:r>
            <a:r>
              <a:rPr b="0" lang="es-AR" sz="2700" spc="-1" strike="noStrike">
                <a:solidFill>
                  <a:srgbClr val="ffffff"/>
                </a:solidFill>
                <a:latin typeface="Tahoma"/>
              </a:rPr>
              <a:t>: Empresas, Consorcio del Parque Industrial de Bahía Blanca, Municipalidad y UTN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ffffff"/>
                </a:solidFill>
                <a:latin typeface="Tahoma"/>
              </a:rPr>
              <a:t>Grupo Regional de Empresas Metalmecánicas del Sur</a:t>
            </a:r>
            <a:r>
              <a:rPr b="0" lang="es-AR" sz="2700" spc="-1" strike="noStrike">
                <a:solidFill>
                  <a:srgbClr val="ffffff"/>
                </a:solidFill>
                <a:latin typeface="Tahoma"/>
              </a:rPr>
              <a:t>: Empresas (12), Municipalidades de Puán y Cnel. Suárez, y UT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219640" y="1413000"/>
            <a:ext cx="3924360" cy="2232000"/>
            <a:chOff x="5219640" y="1413000"/>
            <a:chExt cx="3924360" cy="2232000"/>
          </a:xfrm>
        </p:grpSpPr>
        <p:sp>
          <p:nvSpPr>
            <p:cNvPr id="514" name=""/>
            <p:cNvSpPr/>
            <p:nvPr/>
          </p:nvSpPr>
          <p:spPr>
            <a:xfrm>
              <a:off x="5882760" y="1564920"/>
              <a:ext cx="15199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3400" spc="-1" strike="noStrike">
                  <a:solidFill>
                    <a:srgbClr val="ff9900"/>
                  </a:solidFill>
                  <a:latin typeface="Maiandra GD"/>
                </a:rPr>
                <a:t>DIMES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093880" y="2021760"/>
              <a:ext cx="442080" cy="65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700" spc="-1" strike="noStrike">
                  <a:solidFill>
                    <a:srgbClr val="ff9900"/>
                  </a:solidFill>
                  <a:latin typeface="Maiandra GD"/>
                </a:rPr>
                <a:t>Sur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038800" y="2529000"/>
              <a:ext cx="82800" cy="202680"/>
            </a:xfrm>
            <a:custGeom>
              <a:avLst/>
              <a:gdLst>
                <a:gd name="textAreaLeft" fmla="*/ 34200 w 82800"/>
                <a:gd name="textAreaRight" fmla="*/ 48600 w 82800"/>
                <a:gd name="textAreaTop" fmla="*/ 83520 h 202680"/>
                <a:gd name="textAreaBottom" fmla="*/ 119160 h 20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038800" y="1869480"/>
              <a:ext cx="82800" cy="202680"/>
            </a:xfrm>
            <a:custGeom>
              <a:avLst/>
              <a:gdLst>
                <a:gd name="textAreaLeft" fmla="*/ 34200 w 82800"/>
                <a:gd name="textAreaRight" fmla="*/ 48600 w 82800"/>
                <a:gd name="textAreaTop" fmla="*/ 83520 h 202680"/>
                <a:gd name="textAreaBottom" fmla="*/ 119160 h 20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453160" y="2579760"/>
              <a:ext cx="82800" cy="202680"/>
            </a:xfrm>
            <a:custGeom>
              <a:avLst/>
              <a:gdLst>
                <a:gd name="textAreaLeft" fmla="*/ 34200 w 82800"/>
                <a:gd name="textAreaRight" fmla="*/ 48600 w 82800"/>
                <a:gd name="textAreaTop" fmla="*/ 83520 h 202680"/>
                <a:gd name="textAreaBottom" fmla="*/ 119160 h 20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757360" y="1717200"/>
              <a:ext cx="82800" cy="202680"/>
            </a:xfrm>
            <a:custGeom>
              <a:avLst/>
              <a:gdLst>
                <a:gd name="textAreaLeft" fmla="*/ 34200 w 82800"/>
                <a:gd name="textAreaRight" fmla="*/ 48600 w 82800"/>
                <a:gd name="textAreaTop" fmla="*/ 83520 h 202680"/>
                <a:gd name="textAreaBottom" fmla="*/ 119160 h 20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19640" y="1413000"/>
              <a:ext cx="3924360" cy="223200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30160" y="2833560"/>
              <a:ext cx="3731040" cy="8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9900"/>
                  </a:solidFill>
                  <a:latin typeface="Maiandra GD"/>
                </a:rPr>
                <a:t>Distrito Industrial de maquinarias,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9900"/>
                  </a:solidFill>
                  <a:latin typeface="Maiandra GD"/>
                </a:rPr>
                <a:t>equipos y servici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f9900"/>
                  </a:solidFill>
                  <a:latin typeface="Maiandra GD"/>
                </a:rPr>
                <a:t>www.dimessur.com.a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5364000" y="4437000"/>
            <a:ext cx="3780000" cy="1584360"/>
            <a:chOff x="5364000" y="4437000"/>
            <a:chExt cx="3780000" cy="1584360"/>
          </a:xfrm>
        </p:grpSpPr>
        <p:sp>
          <p:nvSpPr>
            <p:cNvPr id="523" name=""/>
            <p:cNvSpPr/>
            <p:nvPr/>
          </p:nvSpPr>
          <p:spPr>
            <a:xfrm>
              <a:off x="5529960" y="4437000"/>
              <a:ext cx="20768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4800" spc="-1" strike="noStrike">
                  <a:solidFill>
                    <a:srgbClr val="ff0000"/>
                  </a:solidFill>
                  <a:latin typeface="Maiandra GD"/>
                </a:rPr>
                <a:t>GRIM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939440" y="4927320"/>
              <a:ext cx="6645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0000"/>
                  </a:solidFill>
                  <a:latin typeface="Maiandra GD"/>
                </a:rPr>
                <a:t>Su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731720" y="5266800"/>
              <a:ext cx="124560" cy="150840"/>
            </a:xfrm>
            <a:custGeom>
              <a:avLst/>
              <a:gdLst>
                <a:gd name="textAreaLeft" fmla="*/ 51120 w 124560"/>
                <a:gd name="textAreaRight" fmla="*/ 73440 w 124560"/>
                <a:gd name="textAreaTop" fmla="*/ 62280 h 150840"/>
                <a:gd name="textAreaBottom" fmla="*/ 8856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814880" y="4814280"/>
              <a:ext cx="124560" cy="150840"/>
            </a:xfrm>
            <a:custGeom>
              <a:avLst/>
              <a:gdLst>
                <a:gd name="textAreaLeft" fmla="*/ 51120 w 124560"/>
                <a:gd name="textAreaRight" fmla="*/ 73440 w 124560"/>
                <a:gd name="textAreaTop" fmla="*/ 62280 h 150840"/>
                <a:gd name="textAreaBottom" fmla="*/ 8856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479440" y="5342400"/>
              <a:ext cx="124560" cy="150840"/>
            </a:xfrm>
            <a:custGeom>
              <a:avLst/>
              <a:gdLst>
                <a:gd name="textAreaLeft" fmla="*/ 51120 w 124560"/>
                <a:gd name="textAreaRight" fmla="*/ 73440 w 124560"/>
                <a:gd name="textAreaTop" fmla="*/ 62280 h 150840"/>
                <a:gd name="textAreaBottom" fmla="*/ 8856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936640" y="4700880"/>
              <a:ext cx="124560" cy="150840"/>
            </a:xfrm>
            <a:custGeom>
              <a:avLst/>
              <a:gdLst>
                <a:gd name="textAreaLeft" fmla="*/ 51120 w 124560"/>
                <a:gd name="textAreaRight" fmla="*/ 73440 w 124560"/>
                <a:gd name="textAreaTop" fmla="*/ 62280 h 150840"/>
                <a:gd name="textAreaBottom" fmla="*/ 88560 h 1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64000" y="4437000"/>
              <a:ext cx="3780000" cy="1584360"/>
            </a:xfrm>
            <a:prstGeom prst="roundRect">
              <a:avLst>
                <a:gd name="adj" fmla="val 16667"/>
              </a:avLst>
            </a:prstGeom>
            <a:noFill/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29960" y="5493240"/>
              <a:ext cx="35308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0000"/>
                  </a:solidFill>
                  <a:latin typeface="Maiandra GD"/>
                </a:rPr>
                <a:t>Grupo Regional de Industrias Metalmecánicas del Su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53120" y="5719680"/>
              <a:ext cx="226692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0000"/>
                  </a:solidFill>
                  <a:latin typeface="Maiandra GD"/>
                </a:rPr>
                <a:t>www.grimsur.com.a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cc"/>
                </a:solidFill>
                <a:latin typeface="Verdana"/>
              </a:rPr>
              <a:t>Componentes de los Programas de Desarrollo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1680" y="2018880"/>
            <a:ext cx="854064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Infraestruc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Desarrollo de produ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Desarrollo de merc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Abastecimiento (MP y Servici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Formación de 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Inform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cofinanciados por el MTN y MP Pcia Bs.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cc"/>
                </a:solidFill>
                <a:latin typeface="Verdana"/>
              </a:rPr>
              <a:t>Proyectos de Capacitación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61760" y="1771200"/>
            <a:ext cx="8065800" cy="38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Coronel Rosales: soldadura, tratamiento de superficies, pintura y calderer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Bahía Blanca: máquinas herramientas, tratamiento de superficies, pintura y soldadura. </a:t>
            </a:r>
            <a:r>
              <a:rPr b="1" lang="es-AR" sz="2800" spc="-1" strike="noStrike">
                <a:solidFill>
                  <a:srgbClr val="ffff00"/>
                </a:solidFill>
                <a:latin typeface="Tahoma"/>
              </a:rPr>
              <a:t>(C4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Villarino: máquinas herramientas y soldad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Puán: máquinas herramientas y soldad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cofinanciados por el MTN y MP Pcia Bs.As. e I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cc"/>
                </a:solidFill>
                <a:latin typeface="Verdana"/>
              </a:rPr>
              <a:t>Centros de Servicios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Tahoma"/>
              </a:rPr>
              <a:t>CPIBB</a:t>
            </a: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: nivel DIMSUR. Servicios de información tecnológica, mercados, productos, patentes, financiamiento y diseñ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Tahoma"/>
              </a:rPr>
              <a:t>Puán</a:t>
            </a: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: Centro de corte, plegado y tratamiento de superficies metálicas, con abastecimiento de materi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cc"/>
                </a:solidFill>
                <a:latin typeface="Verdana"/>
              </a:rPr>
              <a:t>Desarrollo de Productos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Tahoma"/>
              </a:rPr>
              <a:t>DIMHOSUR</a:t>
            </a: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: Desarrollo de equipos de riego y nuevo kit de siembra para hortaliz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Tahoma"/>
              </a:rPr>
              <a:t>GRIMSUR</a:t>
            </a: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: Fabricación de accesorios para vehíc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cc"/>
                </a:solidFill>
                <a:latin typeface="Verdana"/>
              </a:rPr>
              <a:t>Información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Boletín electrónico mensual: financiamiento, novedades del sector, sitios de interés y even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Páginas Web: Cuatro páginas Web dentro del DIMSUR. Difusión y comunicación inter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Catálogo de empresas de la región: impreso y digit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cc"/>
                </a:solidFill>
                <a:latin typeface="Verdana"/>
              </a:rPr>
              <a:t>Oferta Regional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611280" y="1125360"/>
          <a:ext cx="8532720" cy="5872320"/>
        </p:xfrm>
        <a:graphic>
          <a:graphicData uri="http://schemas.openxmlformats.org/drawingml/2006/table">
            <a:tbl>
              <a:tblPr/>
              <a:tblGrid>
                <a:gridCol w="4267080"/>
                <a:gridCol w="4265640"/>
              </a:tblGrid>
              <a:tr h="59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Sembradoras de hortaliz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porcador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Desmalezado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Palones Articul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Descolado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Zanjado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Estructuras y Tingl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ordeador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Detectores de meta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Intercambiadores de ca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Bombas y acop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copl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Cosechadoras de ceboll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Sembradoras de direct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Arados de cinceles y diversos implementos de aplicación agríco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Silos y plantas de sil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Noria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Casillas rodant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Equipamiento para casillas rodan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Muebles, elementos de iluminación y decoración</a:t>
                      </a:r>
                      <a:r>
                        <a:rPr b="1" lang="es-AR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Tratamiento de meta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Ingeniería y diseñ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ddbf4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00"/>
                          </a:solidFill>
                          <a:latin typeface="Verdana"/>
                          <a:ea typeface="Arial"/>
                        </a:rPr>
                        <a:t>Mantenimiento Industr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Factores que promueven la relación de las Universidades con los Sectores Industriale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7380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sarrollo de lazos de confianza (el paso a pas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ocimiento de la situación actual del sector (entender el negoci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apacidad para resolver problemas concretos (identificación, búsqueda de financiamiento, desarrollo o investig. aplicada, gestión de la transferencia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apacidad para buscar y encontrar soluciones fuera de la propia estruc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cc"/>
                </a:solidFill>
                <a:latin typeface="Verdana"/>
              </a:rPr>
              <a:t>Actividades con los Parques Industriales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ahoma"/>
              </a:rPr>
              <a:t>Bahía Blanca</a:t>
            </a: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Firma de convenio con el Consorcio del Parque Indust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Creación del centro de Capacitación y Certificación de Competencias Profesionales (C4P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Próxima apertura de un Oficina de Desarrollo Industrial (programa de scouts tecnológicos, servicios de vigilancia tecnológica y búsqueda de patentes, información, etc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Estudio de Factibilidad para la instalación de un Parque Eóli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Varios desarrollos tecnológicos (avión ultraliviano, seguimiento satelital y trasmisión de datos a distancia, tecnología para baterías de bajo mantenimiento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cc"/>
                </a:solidFill>
                <a:latin typeface="Verdana"/>
              </a:rPr>
              <a:t>Actividades con los Parques Industriales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Tahoma"/>
              </a:rPr>
              <a:t>Tres Arroyos</a:t>
            </a: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Firma de convenio con el Consorcio del Parque Indust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Asesoramiento a empresas en cálculo estructural para disminución de cos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Asesoramiento en el desarrollo de nueva maquinaria (adaptación de tecnologí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Próxima apertura de un Oficina de Desarrollo Industrial (programa de scouts tecnológicos, servicios de vigilancia tecnológica y búsqueda de patentes, información, etc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50560" y="1412640"/>
            <a:ext cx="86360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Verdana"/>
              </a:rPr>
              <a:t>Desafíos y Oportunidades en la  Vinculación de las Universidades con los Parques Industriales</a:t>
            </a:r>
            <a:r>
              <a:rPr b="1" lang="es-AR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15840" y="44280"/>
            <a:ext cx="668520" cy="76536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182880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-612720" y="20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Universidad Tecnológica Naci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Facultad Regional Bahía Blan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Secretaría de Ciencia y Tecnologí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ahoma"/>
              </a:rPr>
              <a:t>Dirección de Vinculación Tecnológ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>
            <a:off x="361440" y="5105160"/>
            <a:ext cx="842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Arial"/>
              </a:rPr>
              <a:t>IX Reunión Plenaria RedVITE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Arial"/>
              </a:rPr>
              <a:t>Las Universidades y su relación con los Entornos Productivos Reg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  <a:ea typeface="Arial"/>
              </a:rPr>
              <a:t>Santiago del Estero, 29 y 30 de Mayo de 20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cc"/>
                </a:solidFill>
                <a:latin typeface="Tahoma"/>
              </a:rPr>
              <a:t>¿Qué hicimos para desarrollar lazos de confianza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95408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aplicamos el paso a pa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comenzamos con servicios de baja calificación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capacitación, ensayos, etc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asesoramos en la aplicación de tecnología conocida.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(ej. modernización de procesos)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desarrollamos nuevas aplicaciones de tecnologías conocidas.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(ej. transmisión de datos a distancia, desarrollo de softwar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desarrollo tecnológico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ej, aspersores de bajo costo para horticultura, bolsas biodegradables, avión ultraliviano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cc"/>
                </a:solidFill>
                <a:latin typeface="Tahoma"/>
              </a:rPr>
              <a:t>¿Qué hicimos para conocer la situación actual del sector (conocer el negocio)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95408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Relevamiento de Empresa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Búsqueda en Directorios, comunicación telefón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(especialización en las metalmecánica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Estudio exploratorio (ANPCyT- Programa de Competitividad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Caracterización de empresas e identificación de problemáti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Detección de necesidades en áreas diversas, pero comunes entre las empresas.</a:t>
            </a:r>
            <a:r>
              <a:rPr b="1" lang="es-MX" sz="2000" spc="-1" strike="noStrike">
                <a:solidFill>
                  <a:srgbClr val="21e3f7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f4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nálisis del Contex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Verdana"/>
              </a:rPr>
              <a:t>Resultados del Estudio Exploratorio</a:t>
            </a:r>
            <a:br>
              <a:rPr sz="4000"/>
            </a:br>
            <a:r>
              <a:rPr b="1" lang="es-AR" sz="2000" spc="-1" strike="noStrike">
                <a:solidFill>
                  <a:srgbClr val="ffffcc"/>
                </a:solidFill>
                <a:latin typeface="Verdana"/>
              </a:rPr>
              <a:t>Concentración de empresas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826920" y="1773360"/>
          <a:ext cx="7823520" cy="448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73360"/>
                    <a:ext cx="7823520" cy="44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"/>
          <p:cNvGraphicFramePr/>
          <p:nvPr/>
        </p:nvGraphicFramePr>
        <p:xfrm>
          <a:off x="1828800" y="1676520"/>
          <a:ext cx="6324480" cy="319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676520"/>
                    <a:ext cx="6324480" cy="31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1066680" y="525780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  <a:ea typeface="Arial"/>
              </a:rPr>
              <a:t>Not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s-AR" sz="1800" spc="-1" strike="noStrike">
                <a:solidFill>
                  <a:srgbClr val="ffffff"/>
                </a:solidFill>
                <a:latin typeface="Verdana"/>
                <a:ea typeface="Arial"/>
              </a:rPr>
              <a:t>Los valores expresan la relación porcentual de productos y servicios generados con respecto a los destinos fina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96080" y="4495680"/>
            <a:ext cx="457200" cy="457200"/>
          </a:xfrm>
          <a:prstGeom prst="ellipse">
            <a:avLst/>
          </a:prstGeom>
          <a:noFill/>
          <a:ln w="38160">
            <a:solidFill>
              <a:srgbClr val="fd4d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00800" y="3505320"/>
            <a:ext cx="914400" cy="1523880"/>
          </a:xfrm>
          <a:prstGeom prst="ellipse">
            <a:avLst/>
          </a:prstGeom>
          <a:noFill/>
          <a:ln w="38160">
            <a:solidFill>
              <a:srgbClr val="4b47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828800" y="1676520"/>
            <a:ext cx="2438280" cy="1523880"/>
          </a:xfrm>
          <a:prstGeom prst="line">
            <a:avLst/>
          </a:prstGeom>
          <a:ln w="9360">
            <a:solidFill>
              <a:srgbClr val="676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971800" y="16765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76a5c"/>
                </a:solidFill>
                <a:latin typeface="Arial"/>
              </a:rPr>
              <a:t>Destino de la P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3400" y="3124080"/>
            <a:ext cx="990720" cy="2057400"/>
          </a:xfrm>
          <a:prstGeom prst="ellipse">
            <a:avLst/>
          </a:prstGeom>
          <a:noFill/>
          <a:ln w="38160">
            <a:solidFill>
              <a:srgbClr val="5ee1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Verdana"/>
              </a:rPr>
              <a:t>Resultados del Estudio Exploratorio</a:t>
            </a:r>
            <a:br>
              <a:rPr sz="2800"/>
            </a:br>
            <a:r>
              <a:rPr b="1" lang="es-AR" sz="2800" spc="-1" strike="noStrike">
                <a:solidFill>
                  <a:srgbClr val="ffffcc"/>
                </a:solidFill>
                <a:latin typeface="Verdana"/>
              </a:rPr>
              <a:t>Alcances comerciale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503280" y="1052640"/>
          <a:ext cx="8101080" cy="53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052640"/>
                    <a:ext cx="8101080" cy="53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-27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Verdana"/>
              </a:rPr>
              <a:t>Resultados del Estudio Exploratorio</a:t>
            </a:r>
            <a:br>
              <a:rPr sz="2400"/>
            </a:br>
            <a:r>
              <a:rPr b="1" lang="es-AR" sz="2000" spc="-1" strike="noStrike">
                <a:solidFill>
                  <a:srgbClr val="ffffcc"/>
                </a:solidFill>
                <a:latin typeface="Tahoma"/>
              </a:rPr>
              <a:t>Principales Necesidades Detectadas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371600" y="59212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Nota: los porcentajes se reflejan sobre el total de empresas relevad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469800" y="1477800"/>
          <a:ext cx="8204400" cy="425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477800"/>
                    <a:ext cx="8204400" cy="42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301680" y="1890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Verdana"/>
                <a:ea typeface="Arial"/>
              </a:rPr>
              <a:t>Resultados del Estudio Exploratorio</a:t>
            </a:r>
            <a:br>
              <a:rPr sz="2400"/>
            </a:br>
            <a:r>
              <a:rPr b="1" lang="es-AR" sz="2000" spc="-1" strike="noStrike">
                <a:solidFill>
                  <a:srgbClr val="ffffcc"/>
                </a:solidFill>
                <a:latin typeface="Tahoma"/>
                <a:ea typeface="Arial"/>
              </a:rPr>
              <a:t>Perspectiv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ardo</cp:lastModifiedBy>
  <dcterms:modified xsi:type="dcterms:W3CDTF">2008-05-29T11:17:50Z</dcterms:modified>
  <cp:revision>289</cp:revision>
  <dc:subject/>
  <dc:title>PowerPoint Presentation</dc:title>
</cp:coreProperties>
</file>